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DD0F-A5EE-4FB2-AC81-DE3DD2CF4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2849-1526-4C87-BEB1-3370BCA8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0D0E-3BE5-4A4C-8553-F7A64D079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6C85-4165-441A-9239-BA721DB13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81F04-3614-4DDC-8727-C0DE0921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4481F-618A-40D1-ABB3-1DBC3ECE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30D7A-CEB1-447C-A7FA-C1AD77A9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ACB74-6F3D-4294-BFFD-560EFE07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D2F9C-9B4E-41E6-95D2-17312FAB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E99F2-09A2-4B74-9052-59BCB920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35B4F-54E5-43B5-865A-513773CD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DCB9-EDCC-44EE-ABA4-A635AE84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8DA81-642C-43C2-8B44-9B665A60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9F85A-A43F-4E29-B6CF-92F5C29F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19001-03D7-482B-88AC-2999EF0F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C8E68-26F1-4560-B9E6-E4CCA6071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B5A1E8-7BCA-44AC-A456-F562783A8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3876-04A2-40E9-BF64-4D78939F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C4BD-A207-42C8-99A3-B3DA18F9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2589-CC47-41D3-B864-4DA59968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5AEC-AAA4-4BC0-82B0-CA365C86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DED9-D5C3-4450-AC30-2C806EC6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1498-5A45-4CE7-A381-E54D7AF3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A8C8-426A-47E9-8BA6-8358F882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4C9D-F7D2-40BE-B2E6-E418F2D5B5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86D6-C009-49A0-B99E-A37A3C8CB3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85800" y="2057400"/>
            <a:ext cx="7772400" cy="2057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curr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28600" y="685800"/>
            <a:ext cx="838188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22960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30592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848720" cy="13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33520" y="291960"/>
            <a:ext cx="8076960" cy="3886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09480" y="4267080"/>
            <a:ext cx="5894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7696440" cy="56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4:31:43Z</dcterms:created>
  <dc:creator>abeason</dc:creator>
  <dc:description/>
  <dc:language>en-US</dc:language>
  <cp:lastModifiedBy>abeason</cp:lastModifiedBy>
  <dcterms:modified xsi:type="dcterms:W3CDTF">2009-02-17T14:35:18Z</dcterms:modified>
  <cp:revision>1</cp:revision>
  <dc:subject/>
  <dc:title>Slide 1</dc:title>
</cp:coreProperties>
</file>